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9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20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1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27AD-BBED-4164-9A3D-314BDDED4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4A20-379A-4841-9E04-86A8E408F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uat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ing Choices about operation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a micro-century? …just about enough time for one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1385-516C-4D1C-BB24-19D8DFEBD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D576-ED74-421D-A0FA-6BDD692B1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DF31-81AD-4008-9822-AA1CB4644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5942-5A07-4DC0-BFBA-D7A1AB1DD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45AE-3952-4D84-83E4-AEC0EEDD5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6278-115A-446A-91D7-96740F5BC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C738-7522-4BBA-A986-C747691B6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4475-40A5-4731-B506-092EE30BF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EE3B-2506-40C5-AEB6-976D279AE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99F9-F0EE-47F4-91DC-A5ED1F831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F121-D527-4A39-8FD5-64212ECAD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7B73-DBED-4F4F-A6CB-8D748BA38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60AA-7ACE-431C-99BD-1E8E60120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5057-6BBF-4623-B323-8E47A2006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2A05-9E18-4EC7-907D-9E480C089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C31A-0834-463A-9640-1EF6AF83E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AC15-037F-4F64-BB68-9457412C6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CDB3-5126-41EC-B173-A68E1FF32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8032-C135-4C70-B230-D321A672B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0D17-3908-468A-899E-3A8A3149B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2C8F-B7D3-4F04-B197-3F32BAEB5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7F0F-E830-4522-8B63-6A3726B49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BB82-B69E-44AD-AC62-9586CB645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EF70-E449-4FC1-91A2-98BD25CEE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ACEA-CB35-4A0C-85D2-426012C12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DD9D-B716-430D-92FF-87D88638A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0153-9799-48F1-9A53-AA2AE3E87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04A5-2599-491C-B862-68BDF81A4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104B-CFB6-4176-B3B8-1577FC4F1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AEC8-1310-47CE-AFA0-6856CD5E3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B48-DDF3-40E7-8E53-F3BC2063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6A7-7BEF-4015-9296-4BA8E703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31D-D845-4DFB-A794-44BDF4C1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391-E35D-42AC-B73F-FBB02A2C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4C64-06A2-4D2D-950D-C7B16A85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940B-7B7F-42A9-9C3B-A5BDF612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220F-0A0B-4531-BB5F-13F64C1C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51FF-911E-4271-8783-BCEE73E7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1118-5892-4538-B414-14BF1E49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A1B6-AE78-4C60-A875-86BC4FB5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3C06-A318-48E8-972E-5700AFC9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4BE-DE8C-4FE3-84D2-3430A5F5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D72D-4F39-4945-88C3-072A897E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8FE8-BA11-41C2-BB6E-D3E18D48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7B19-B8C4-4AA3-8BE1-E23431B4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DDB4-2FB5-4F34-A213-7512CE50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0D27-531F-410F-9583-24341D20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5BEDC-92F4-4504-8E8B-030CE3CA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FFDE8-ABEB-4AB1-8EA6-2367D783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4504F-0F8F-49C4-9A54-3061521E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ED737-93AA-47A4-A80C-2C1844B4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057CC-91EC-4220-842B-586DBD6A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361-B94C-4940-BDC0-741649F2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166EE-39D8-4B52-AC5A-C6D1A3B0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558A8-E607-42A3-9AB3-78991548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2BA1E-EC04-47C5-8540-F5B2A5F4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652F0-9A34-479C-A402-A00B561E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4D1CC-F013-486E-AEF1-044792B1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6D2C3-D534-40E8-930F-91588FA8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6BD89-2DCB-4EDD-8ECE-40FF666A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AFBBD-D9BE-4A3F-8B54-0D87D9D2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27B3D-1DAC-4634-A669-5CBAD164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F5658-28D6-4110-9557-F8D5832E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1A7-65AB-41A2-8E39-9793A887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85809-95E8-4EA3-B887-F0C25FCC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31F1E-287C-4713-91A4-FA7D225D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C3F33-D447-4F6B-8B35-3605626D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9895A-9905-49CD-ADAF-F500CD9F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505BC-5573-4F60-A36B-C4310EAB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7E7E0-AB21-479C-8319-08B2392F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23D4B-3C6A-414A-86EB-2B14CCA5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A3D78-3C20-4B38-A33C-250A909B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9A675-1325-4B34-9A56-4E9236D9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8FFD5-50E4-4006-A854-6DFDA9A2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6F9-7753-4F63-8DF2-D71CC4E3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D33F3-C532-48AA-A846-6B441694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A63D8-A164-4270-8160-81BB3B7F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63BA2-48E6-49F5-AE36-F6056C64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FB331-9CEB-4DC4-8A97-DD3ECC12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84375-E4BB-400A-8D97-13F6829F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24D8B-580D-43CC-B2B5-0C699F5E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EDFD9-E112-4F1C-A5F9-E7CFB568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B6343-D891-4E4B-AF87-3986A9A6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2C101-81FB-490B-BA59-CF26A804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08E2E-2939-46DD-8FE9-F6C82DF9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E78-24A8-4B62-8772-AABEC0F8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77EB8-EF6B-432A-BEE4-F26EA237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DC23F-0156-4DF8-9171-B47231EB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81449-969D-4851-8C0D-297E3B6C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FC58B-933D-4581-AAD2-7A5BF8CA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97157-10FD-44ED-AAA7-4BD7E982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F04F9-DDBD-4CE9-8FDE-D9C33814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FBC04-FCEE-40C4-8D2B-DEA64C87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A12BF-A6EA-4935-BA06-81ABE89A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0D2B3-DEE4-4934-AA31-3D84D37E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305A5-90CA-40D1-8DDF-3737E02A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DF5B-B58A-4E2C-9058-376DC68B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EAC88-099A-4C58-8504-949298E9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62BA7-0805-4C6D-9753-D7E6CA21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202E4-00D5-4361-9EC9-63A1EA01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3B72-826B-4632-AD96-A6CF9266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5726-BD0C-489E-B8CD-06D1DAE1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INTRODUCTION TO OPERATING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2F40-371D-4184-8B6F-CFA45155FD0D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INTRODUCTION TO OPERATING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70E8-EC53-4178-AAF3-5E9BF940FEC8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9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INTRODUCTION TO OPERATING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0062-4AAD-4316-A183-B56C0F1892A5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INTRODUCTION TO OPERATING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7023-C3C7-4527-ABA3-B3C1AF3DE48F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INTRODUCTION TO OPERATING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6646-8CF4-489B-91EA-23F1F971D4A5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INTRODUCTION TO OPERATING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A632-E835-435B-AB00-F32DAC033F5E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1523880" y="5028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Tw Cen MT Condensed"/>
              </a:rPr>
              <a:t>INTRODUCTION TO OPERATING SYSTEMS</a:t>
            </a:r>
            <a:br>
              <a:rPr sz="3600"/>
            </a:br>
            <a:r>
              <a:rPr b="0" lang="en-US" sz="3600" spc="-1" strike="noStrike">
                <a:solidFill>
                  <a:srgbClr val="0d0d0d"/>
                </a:solidFill>
                <a:latin typeface="Tw Cen MT Condensed"/>
              </a:rPr>
              <a:t>LECTURE 2</a:t>
            </a:r>
            <a:endParaRPr b="0" lang="en-US" sz="36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WHY PROCESSES?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nables programmers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o completely disengage from issues of concurrent execution of independent progra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o build applications with more than one concurrent activi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nables 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independen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applications to share a computing syste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Safely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89B3-DE1B-45D2-A82B-A2B7798434A0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WHY PROCESSES (CONTINUED)?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Exploit modern processor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pable of executing multiple, simultaneous, program execu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terleaved at instruction level or even memory access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A5C4-A458-40EA-9054-13EAB867C647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RESOURCES ASSIGNED TO A PROCES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8240" y="192096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3000"/>
          </a:bodyPr>
          <a:p>
            <a:pPr marL="74880" indent="-74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371520" indent="-1134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74880" indent="-74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ocessor tim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371520" indent="-1134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Priori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371520" indent="-1134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Deadlines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for real-time activi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74880" indent="-74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ivileg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371520" indent="-1134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Security, authentication,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74880" indent="-74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iles and file spac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371520" indent="-1134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r long-term storage, temporary storag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74880" indent="-74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Devic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371520" indent="-1134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r input and output activity, sensors, etc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C841-9106-4DB2-BA2B-289DD3A818BE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RESOURCES </a:t>
            </a:r>
            <a:r>
              <a:rPr b="0" lang="en-US" sz="2800" spc="-1" strike="noStrike">
                <a:solidFill>
                  <a:srgbClr val="0d0d0d"/>
                </a:solidFill>
                <a:latin typeface="Tw Cen MT Condensed"/>
              </a:rPr>
              <a:t>(CONTINUED)</a:t>
            </a:r>
            <a:endParaRPr b="0" lang="en-US" sz="2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anaged by O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otection and isolation from other process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llocation according to defined 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polici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nforcement of limits, etc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50EB-97D2-462A-8C89-ACB9120A90E4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WINDOW MANAGER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indow Manager is a proces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racks mouse movements, key clicks, menu action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Open” an application means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reate process for that application; give it a window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Open” a document means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f application is not open, create process for 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Pass document as argument to applic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8D80-AC42-4F55-8187-C22BD6B7B3A1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0320" y="304560"/>
            <a:ext cx="7290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REATING AND DELETING PROCESSE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838080" y="144792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78000"/>
          </a:bodyPr>
          <a:p>
            <a:pPr marL="70200" indent="-70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 process is created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206640" indent="-106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t system boot tim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349200" indent="-106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first proces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349200" indent="-106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ilt-in processes – e.g., in embedded syste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349200" indent="-106560" algn="ctr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06640" indent="-106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y another proces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349200" indent="-106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ossibly in response to an action by a (human) use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70200" indent="-70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 process is deleted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206640" indent="-106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en its program exit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06640" indent="-106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y another process – 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killed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paused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(by debugger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06640" indent="-106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hen system crashes or shuts dow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4D1D-2ECB-42E3-87C8-EE21A1F61429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1752480" y="5028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Tw Cen MT Condensed"/>
              </a:rPr>
              <a:t>QUESTIONS ABOUT PROCESSES?</a:t>
            </a:r>
            <a:endParaRPr b="0" lang="en-US" sz="36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6858000" y="5943600"/>
            <a:ext cx="15238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FOUR FUNDAMENTAL ABSTRACTION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0b0b0"/>
                </a:solidFill>
                <a:latin typeface="Tw Cen MT"/>
              </a:rPr>
              <a:t>Processes</a:t>
            </a:r>
            <a:r>
              <a:rPr b="0" lang="en-US" sz="3200" spc="-1" strike="noStrike">
                <a:solidFill>
                  <a:srgbClr val="b0b0b0"/>
                </a:solidFill>
                <a:latin typeface="Tw Cen MT"/>
              </a:rPr>
              <a:t> &amp; </a:t>
            </a:r>
            <a:r>
              <a:rPr b="0" i="1" lang="en-US" sz="3200" spc="-1" strike="noStrike">
                <a:solidFill>
                  <a:srgbClr val="b0b0b0"/>
                </a:solidFill>
                <a:latin typeface="Tw Cen M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0b0b0"/>
                </a:solidFill>
                <a:latin typeface="Tw Cen MT"/>
              </a:rPr>
              <a:t>Multiplexing of processor(s) to create the illusion of many of the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w Cen MT"/>
              </a:rPr>
              <a:t>Virtual memory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ultiplexing of physical memory and disk blocks to create illusion of separate memory per proces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0b0b0"/>
                </a:solidFill>
                <a:latin typeface="Tw Cen MT"/>
              </a:rPr>
              <a:t>Files</a:t>
            </a:r>
            <a:r>
              <a:rPr b="0" lang="en-US" sz="3200" spc="-1" strike="noStrike">
                <a:solidFill>
                  <a:srgbClr val="b0b0b0"/>
                </a:solidFill>
                <a:latin typeface="Tw Cen MT"/>
              </a:rPr>
              <a:t> – i.e., persistent storag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0b0b0"/>
                </a:solidFill>
                <a:latin typeface="Tw Cen MT"/>
              </a:rPr>
              <a:t>Organizing principles about long-term data storag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0b0b0"/>
                </a:solidFill>
                <a:latin typeface="Tw Cen MT"/>
              </a:rPr>
              <a:t>Sockets</a:t>
            </a:r>
            <a:r>
              <a:rPr b="0" lang="en-US" sz="3200" spc="-1" strike="noStrike">
                <a:solidFill>
                  <a:srgbClr val="b0b0b0"/>
                </a:solidFill>
                <a:latin typeface="Tw Cen MT"/>
              </a:rPr>
              <a:t> &amp; </a:t>
            </a:r>
            <a:r>
              <a:rPr b="0" i="1" lang="en-US" sz="3200" spc="-1" strike="noStrike">
                <a:solidFill>
                  <a:srgbClr val="b0b0b0"/>
                </a:solidFill>
                <a:latin typeface="Tw Cen MT"/>
              </a:rPr>
              <a:t>Connectio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0b0b0"/>
                </a:solidFill>
                <a:latin typeface="Tw Cen MT"/>
              </a:rPr>
              <a:t>Organizing principles about network communic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2E0C-CCF1-48F7-94CB-7CA8974B8755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VIRTUAL MEMORY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26b02"/>
                </a:solidFill>
                <a:latin typeface="Tw Cen MT"/>
              </a:rPr>
              <a:t>Definition:–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the </a:t>
            </a:r>
            <a:r>
              <a:rPr b="0" i="1" lang="en-US" sz="2800" spc="-1" strike="noStrike">
                <a:solidFill>
                  <a:srgbClr val="b26b02"/>
                </a:solidFill>
                <a:latin typeface="Tw Cen MT"/>
              </a:rPr>
              <a:t>illusion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that a process has its own, independent memo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(Often) more memory than machine has installed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ay be implemented using interrupts, 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page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, and disk block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wapping fast enough so process is unawar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ay be implemented by partition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Swapping not necessary for real-time activitie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534A-6771-41C8-AA41-CC2B1600A70D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d0d0d"/>
                </a:solidFill>
                <a:latin typeface="Tw Cen MT Condensed"/>
              </a:rPr>
              <a:t>INDEPENDENCE OF VIRTUAL MEMORIE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 process cannot even 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the virtual memory of another proces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 process cannot even 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se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the memory used by the O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3096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.e., no possible pointer value can point to something in a different virtual memo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3096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Separat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, parallel univers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3096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xcept where explicitly linked togeth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5EB5-0C2E-4DAC-B063-EB7D7FDB7456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DEFINITION 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An OS is a program which acts as an 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 between computer system users and the computer hardware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ＭＳ Ｐゴシック"/>
              </a:rPr>
              <a:t>It provides a user-friendly environment in which a user may easily develop and execute program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8120-1AD1-435D-A514-6367F6172C07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QUESTIONS ABOUT PROCESSES</a:t>
            </a:r>
            <a:br>
              <a:rPr sz="4400"/>
            </a:b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OR VIRTUAL MEMORY?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THREAD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 thread is the smallest unit of processing that can be performed in an OS. In most modern operating systems, a thread exists within a process - that is, a single process may contain multiple thread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FB58-729D-4095-829D-6FBB4CC722DA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FOUR FUNDAMENTAL ABSTRACTION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b4b4"/>
                </a:solidFill>
                <a:latin typeface="Tw Cen MT"/>
              </a:rPr>
              <a:t>Processes &amp; thread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b4b4"/>
                </a:solidFill>
                <a:latin typeface="Tw Cen MT"/>
              </a:rPr>
              <a:t>Multiplexing of processor(s) to create the illusion of many of them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b4b4"/>
                </a:solidFill>
                <a:latin typeface="Tw Cen MT"/>
              </a:rPr>
              <a:t>Virtual memo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b4b4"/>
                </a:solidFill>
                <a:latin typeface="Tw Cen MT"/>
              </a:rPr>
              <a:t>Multiplexing of physical memory and disk blocks to create illusion of own memory per proces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iles &amp; persistent storag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Organizing principles about long-term data storag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b4b4"/>
                </a:solidFill>
                <a:latin typeface="Tw Cen MT"/>
              </a:rPr>
              <a:t>Sockets &amp; connectio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b4b4"/>
                </a:solidFill>
                <a:latin typeface="Tw Cen MT"/>
              </a:rPr>
              <a:t>Organizing principles about network communicatio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332B-2343-419D-A6E2-DB7A233F4DA9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0C09-3727-459C-96BB-523841854D34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19320" y="269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DEFINITION –</a:t>
            </a:r>
            <a:r>
              <a:rPr b="0" i="1" lang="en-US" sz="4400" spc="-1" strike="noStrike">
                <a:solidFill>
                  <a:srgbClr val="0d0d0d"/>
                </a:solidFill>
                <a:latin typeface="Tw Cen MT Condensed"/>
              </a:rPr>
              <a:t> FIL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19320" y="1581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potentially)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large amount of information or data that lives a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potentially)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very long tim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ften much larger than the memory of the comput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ften much longer than any comput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ometimes longer than life of machine itself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(Usually) organized as a linear array of bytes or 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block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ternal structure is imposed by applica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Occasionally) blocks may be variable length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(Often) requiring concurrent access by multiple threads or process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ven by processes on different machines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Straight Connector 3"/>
          <p:cNvSpPr/>
          <p:nvPr/>
        </p:nvSpPr>
        <p:spPr>
          <a:xfrm>
            <a:off x="914400" y="270000"/>
            <a:ext cx="0" cy="1008000"/>
          </a:xfrm>
          <a:prstGeom prst="line">
            <a:avLst/>
          </a:prstGeom>
          <a:ln w="936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CD71-A373-4742-AE48-9B02054D14D1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269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IMPLEMENTATIONS OF FILE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87560" y="1662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sually on disks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(or devices that mimic disk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gnetic – hard drive or flopp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ptical – CD, DV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lash drives – electronic memory, organized as disk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Requiremen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serve data contents during power-off or disast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Directory / Fold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pecial kind of file that contains links pointing to other fil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ssociates names with fil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Straight Connector 3"/>
          <p:cNvSpPr/>
          <p:nvPr/>
        </p:nvSpPr>
        <p:spPr>
          <a:xfrm>
            <a:off x="990720" y="270000"/>
            <a:ext cx="0" cy="1008000"/>
          </a:xfrm>
          <a:prstGeom prst="line">
            <a:avLst/>
          </a:prstGeom>
          <a:ln w="936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A0B7-0328-4912-8031-293AD2256710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QUESTIONS ABOUT FILES?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4" name="Straight Connector 3"/>
          <p:cNvSpPr/>
          <p:nvPr/>
        </p:nvSpPr>
        <p:spPr>
          <a:xfrm>
            <a:off x="1143000" y="2133720"/>
            <a:ext cx="0" cy="1523880"/>
          </a:xfrm>
          <a:prstGeom prst="line">
            <a:avLst/>
          </a:prstGeom>
          <a:ln w="936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78A9-7DA7-4235-BDBB-77C5FB48BA9A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680" y="3841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FOUR FUNDAMENTAL ABSTRACTION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b4b4"/>
                </a:solidFill>
                <a:latin typeface="Tw Cen MT"/>
              </a:rPr>
              <a:t>Processes &amp; thread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b4b4"/>
                </a:solidFill>
                <a:latin typeface="Tw Cen MT"/>
              </a:rPr>
              <a:t>Multiplexing of processor(s) to create the illusion of many of them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b4b4"/>
                </a:solidFill>
                <a:latin typeface="Tw Cen MT"/>
              </a:rPr>
              <a:t>Virtual memo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b4b4"/>
                </a:solidFill>
                <a:latin typeface="Tw Cen MT"/>
              </a:rPr>
              <a:t>Multiplexing of physical memory and disk blocks to create illusion of own memory per proces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b4b4"/>
                </a:solidFill>
                <a:latin typeface="Tw Cen MT"/>
              </a:rPr>
              <a:t>Files &amp; persistent storag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4b4b4"/>
                </a:solidFill>
                <a:latin typeface="Tw Cen MT"/>
              </a:rPr>
              <a:t>Organizing principles about long-term data storag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ockets &amp; connectio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Organizing principles about network communicatio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Straight Connector 3"/>
          <p:cNvSpPr/>
          <p:nvPr/>
        </p:nvSpPr>
        <p:spPr>
          <a:xfrm>
            <a:off x="685800" y="344520"/>
            <a:ext cx="0" cy="1030320"/>
          </a:xfrm>
          <a:prstGeom prst="line">
            <a:avLst/>
          </a:prstGeom>
          <a:ln w="936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FB9D-AEA9-4D62-9441-BA0C14749EA2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41360" y="4935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SOCKETS AND CONNECTION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Connection: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serial conversation over a network between two end poi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.g., processes, threads, tasks on different compute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rganized as a sequence of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message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datagra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stinct from all other connec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Socket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 end point of a conne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 abstraction that allows a process to send or receive only the information of that conne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ultiplexed on network with all other connec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Straight Connector 3"/>
          <p:cNvSpPr/>
          <p:nvPr/>
        </p:nvSpPr>
        <p:spPr>
          <a:xfrm>
            <a:off x="914400" y="453960"/>
            <a:ext cx="0" cy="1030320"/>
          </a:xfrm>
          <a:prstGeom prst="line">
            <a:avLst/>
          </a:prstGeom>
          <a:ln w="936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A710-A1C1-44B7-8C8F-3783C38932D3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3372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ANY QUESTION?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5" name="Straight Connector 3"/>
          <p:cNvSpPr/>
          <p:nvPr/>
        </p:nvSpPr>
        <p:spPr>
          <a:xfrm>
            <a:off x="1752480" y="2209680"/>
            <a:ext cx="0" cy="1676520"/>
          </a:xfrm>
          <a:prstGeom prst="line">
            <a:avLst/>
          </a:prstGeom>
          <a:ln w="936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WHAT IS AN OPERATING SYSTEM?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440" y="1523880"/>
            <a:ext cx="3814920" cy="464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rge, complex set of progra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ong-lived, evolv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orked on by many people for many yea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42920" y="1523880"/>
            <a:ext cx="3814920" cy="464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reates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abstrac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ultiplexes concurrent activi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nages resour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diates access to hardware devi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vides a variety of services to users and application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17E9-EA07-4B83-99E4-E7FB525DEFBE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OPERATING SYSTEM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Essentia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to create an acceptable computing environment to create and execute other programs that achieve business or personal goa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F14D-DD67-4438-99FA-66DC1D4BFF5C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OS AND HARDWAR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OS mediates programs’ access to hardwar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Computation – CPU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torage – volatile (memory) and persistent (disk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etworks – NIC, protocol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/O devices – sound cards, keyboards, display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CAEF-76CA-47B3-B757-D28E7429D670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FOUR FUNDAMENTAL ABSTRACTION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6788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w Cen MT"/>
              </a:rPr>
              <a:t>Processes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&amp; </a:t>
            </a:r>
            <a:r>
              <a:rPr b="0" i="1" lang="en-US" sz="3200" spc="-1" strike="noStrike">
                <a:solidFill>
                  <a:srgbClr val="000000"/>
                </a:solidFill>
                <a:latin typeface="Tw Cen M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ultiplexing of processor(s) to create the illusion of many of the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w Cen MT"/>
              </a:rPr>
              <a:t>Virtual memory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ultiplexing of physical memory and disk blocks to create illusion of own memory per proces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w Cen MT"/>
              </a:rPr>
              <a:t>Files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– i.e., persistent storag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rganizing principles about long-term data storag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w Cen MT"/>
              </a:rPr>
              <a:t>Sockets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&amp; </a:t>
            </a:r>
            <a:r>
              <a:rPr b="0" i="1" lang="en-US" sz="3200" spc="-1" strike="noStrike">
                <a:solidFill>
                  <a:srgbClr val="000000"/>
                </a:solidFill>
                <a:latin typeface="Tw Cen MT"/>
              </a:rPr>
              <a:t>Connectio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Organizing principles about network communica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E395-19EC-4C50-B584-F1FEA7867ED4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FOUR FUNDAMENTAL ABSTRACTION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76788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&amp; 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Multiplexing of processor(s) to create the illusion of many of them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0b0b0"/>
                </a:solidFill>
                <a:latin typeface="Tw Cen MT"/>
              </a:rPr>
              <a:t>Virtual memor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0b0b0"/>
                </a:solidFill>
                <a:latin typeface="Tw Cen MT"/>
              </a:rPr>
              <a:t>Multiplexing of physical memory and disk blocks to create illusion of own memory per proces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0b0b0"/>
                </a:solidFill>
                <a:latin typeface="Tw Cen MT"/>
              </a:rPr>
              <a:t>Files</a:t>
            </a:r>
            <a:r>
              <a:rPr b="0" lang="en-US" sz="2800" spc="-1" strike="noStrike">
                <a:solidFill>
                  <a:srgbClr val="b0b0b0"/>
                </a:solidFill>
                <a:latin typeface="Tw Cen MT"/>
              </a:rPr>
              <a:t> – i.e., persistent storag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0b0b0"/>
                </a:solidFill>
                <a:latin typeface="Tw Cen MT"/>
              </a:rPr>
              <a:t>Organizing principles about long-term data storag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0b0b0"/>
                </a:solidFill>
                <a:latin typeface="Tw Cen MT"/>
              </a:rPr>
              <a:t>Sockets</a:t>
            </a:r>
            <a:r>
              <a:rPr b="0" lang="en-US" sz="2800" spc="-1" strike="noStrike">
                <a:solidFill>
                  <a:srgbClr val="b0b0b0"/>
                </a:solidFill>
                <a:latin typeface="Tw Cen MT"/>
              </a:rPr>
              <a:t> &amp; </a:t>
            </a:r>
            <a:r>
              <a:rPr b="0" i="1" lang="en-US" sz="2800" spc="-1" strike="noStrike">
                <a:solidFill>
                  <a:srgbClr val="b0b0b0"/>
                </a:solidFill>
                <a:latin typeface="Tw Cen MT"/>
              </a:rPr>
              <a:t>Connectio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0b0b0"/>
                </a:solidFill>
                <a:latin typeface="Tw Cen MT"/>
              </a:rPr>
              <a:t>Organizing principles about network communicatio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EBCF-3097-4611-AFC8-F30C807DFACB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DEFINITION – </a:t>
            </a:r>
            <a:r>
              <a:rPr b="0" i="1" lang="en-US" sz="4400" spc="-1" strike="noStrike">
                <a:solidFill>
                  <a:srgbClr val="0d0d0d"/>
                </a:solidFill>
                <a:latin typeface="Tw Cen MT Condensed"/>
              </a:rPr>
              <a:t>PROCESS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particular execution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of a progra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ifferent from all other executions of that progra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ifferent from executions of other progra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OS uses one or more CPUs to make it 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seem lik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each process has its own CPU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an execute at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same time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Uses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interrupts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to manage and enforce multiplexing of CPU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74EA-9507-48A2-B80F-6FBD653D41AA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1"/>
          <p:cNvSpPr/>
          <p:nvPr/>
        </p:nvSpPr>
        <p:spPr>
          <a:xfrm>
            <a:off x="8128080" y="6470640"/>
            <a:ext cx="73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A5F0-255A-43FF-94D3-4D068048E0BE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d0d0d"/>
                </a:solidFill>
                <a:latin typeface="Tw Cen MT Condensed"/>
              </a:rPr>
              <a:t>DEFINITION</a:t>
            </a: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 – INTERRUP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5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 mechanism by which the processor suspends execution of the current, running program and gives control to the O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OS saves the 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stat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of the interrupted program so that it can be restarted late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OS then takes appropriate ac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00:16Z</dcterms:created>
  <dc:creator>Hugh C. Lauer</dc:creator>
  <dc:description/>
  <dc:language>en-US</dc:language>
  <cp:lastModifiedBy>Hafsa Taj</cp:lastModifiedBy>
  <dcterms:modified xsi:type="dcterms:W3CDTF">2018-12-22T12:13:24Z</dcterms:modified>
  <cp:revision>18</cp:revision>
  <dc:subject>CS-2301, System Programming   for Non-Majors, B-Term 2009</dc:subject>
  <dc:title>Introduction to Operating Systems</dc:title>
</cp:coreProperties>
</file>